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F5C0-CF08-4F0E-8E66-670281929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FF20-98B8-4961-80FB-23FB5956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7AE7-32C2-4C16-93BA-26DA28FFC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0311-BA7C-4AA2-8048-16754AA35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17F1-90D8-47BF-92F5-48A5E37A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D060-F878-4985-B79B-474CEB6F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C163-9D6A-44DF-BC35-458A21DE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BC28-7495-4ECF-A163-2AC9DF40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FA8E-E8FD-4272-97A5-9DBD0C20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A443-58A7-4973-AE2F-62DD3759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BB8D-FBD2-4B88-904D-B22F5688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C2C1-3539-44D3-AE48-78825656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79E5-11F2-40FD-91BD-A1CBC0813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59280" y="97956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59280" y="177156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R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2560" y="50115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GUIA DESPACH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2563920"/>
            <a:ext cx="216036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RIMIR Y ENVI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335592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EPCION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rot="16200000">
            <a:off x="4031640" y="1663560"/>
            <a:ext cx="216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4" idx="2"/>
            <a:endCxn id="45" idx="0"/>
          </p:cNvCxnSpPr>
          <p:nvPr/>
        </p:nvCxnSpPr>
        <p:spPr>
          <a:xfrm rot="16200000">
            <a:off x="4031280" y="32479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2" idx="2"/>
            <a:endCxn id="44" idx="0"/>
          </p:cNvCxnSpPr>
          <p:nvPr/>
        </p:nvCxnSpPr>
        <p:spPr>
          <a:xfrm rot="16200000">
            <a:off x="4031280" y="24559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3059280" y="501156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FACTUR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35640" y="50115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BOLETA HONORARIO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5" idx="2"/>
            <a:endCxn id="43" idx="0"/>
          </p:cNvCxnSpPr>
          <p:nvPr/>
        </p:nvCxnSpPr>
        <p:spPr>
          <a:xfrm rot="5400000">
            <a:off x="2411280" y="3283920"/>
            <a:ext cx="1079640" cy="23767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5" idx="2"/>
            <a:endCxn id="49" idx="0"/>
          </p:cNvCxnSpPr>
          <p:nvPr/>
        </p:nvCxnSpPr>
        <p:spPr>
          <a:xfrm rot="16200000">
            <a:off x="3599640" y="4471920"/>
            <a:ext cx="10796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50" idx="0"/>
          </p:cNvCxnSpPr>
          <p:nvPr/>
        </p:nvCxnSpPr>
        <p:spPr>
          <a:xfrm flipH="1" rot="16200000">
            <a:off x="4788000" y="3283560"/>
            <a:ext cx="1079640" cy="23770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1" idx="0"/>
          </p:cNvCxnSpPr>
          <p:nvPr/>
        </p:nvCxnSpPr>
        <p:spPr>
          <a:xfrm rot="5400000">
            <a:off x="3960000" y="799560"/>
            <a:ext cx="359640" cy="1440"/>
          </a:xfrm>
          <a:prstGeom prst="bentConnector3">
            <a:avLst>
              <a:gd name="adj1" fmla="val 181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059280" y="587700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 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35640" y="5877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LETA HONOR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9" idx="2"/>
            <a:endCxn id="55" idx="0"/>
          </p:cNvCxnSpPr>
          <p:nvPr/>
        </p:nvCxnSpPr>
        <p:spPr>
          <a:xfrm rot="16200000">
            <a:off x="3994920" y="5732280"/>
            <a:ext cx="2894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0" idx="2"/>
            <a:endCxn id="56" idx="0"/>
          </p:cNvCxnSpPr>
          <p:nvPr/>
        </p:nvCxnSpPr>
        <p:spPr>
          <a:xfrm rot="16200000">
            <a:off x="6371640" y="5732280"/>
            <a:ext cx="2894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6299280" y="371628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 RECEPCIÓN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ISTENCIAS VS DOCTOS X 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99280" y="299556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GRESO INVENTARI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DEGA Y TARJETA EXI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45" idx="3"/>
            <a:endCxn id="59" idx="1"/>
          </p:cNvCxnSpPr>
          <p:nvPr/>
        </p:nvCxnSpPr>
        <p:spPr>
          <a:xfrm>
            <a:off x="5219640" y="3643920"/>
            <a:ext cx="1080000" cy="36072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45" idx="3"/>
            <a:endCxn id="60" idx="1"/>
          </p:cNvCxnSpPr>
          <p:nvPr/>
        </p:nvCxnSpPr>
        <p:spPr>
          <a:xfrm flipV="1">
            <a:off x="5219640" y="3283560"/>
            <a:ext cx="1080000" cy="36072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682560" y="5877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UIAS 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43" idx="2"/>
            <a:endCxn id="63" idx="0"/>
          </p:cNvCxnSpPr>
          <p:nvPr/>
        </p:nvCxnSpPr>
        <p:spPr>
          <a:xfrm rot="16200000">
            <a:off x="1618560" y="5732280"/>
            <a:ext cx="2894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3962520" y="4292640"/>
            <a:ext cx="360360" cy="36036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333360"/>
            <a:ext cx="2952720" cy="79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A DE FLUJ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537372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59280" y="537372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35640" y="5373720"/>
            <a:ext cx="14292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00720" y="4064040"/>
            <a:ext cx="14292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00720" y="3344760"/>
            <a:ext cx="14292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476280"/>
            <a:ext cx="165564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979560"/>
            <a:ext cx="165564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MÁT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5440" y="1206360"/>
            <a:ext cx="109440" cy="135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260280"/>
            <a:ext cx="1655640" cy="1443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MBOLOG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4:55:18Z</dcterms:created>
  <dc:creator>.</dc:creator>
  <dc:description/>
  <dc:language>en-US</dc:language>
  <cp:lastModifiedBy>.</cp:lastModifiedBy>
  <dcterms:modified xsi:type="dcterms:W3CDTF">2012-04-19T05:39:22Z</dcterms:modified>
  <cp:revision>19</cp:revision>
  <dc:subject/>
  <dc:title>Diapositiva 1</dc:title>
</cp:coreProperties>
</file>